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379-A54E-40A4-A5F9-D30D1992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FEF-99BD-419A-A1E7-62D477ED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652-51EE-4E08-9090-699B8D1C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1C8-3EE9-4968-A7DE-15AAE355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F03-72EE-4494-ACBE-57E6BBD3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60E-AA79-445B-BAD5-BC41AD4F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18B-54FB-4ABD-987D-AAA71B03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3DE-C1AD-4C95-9A28-1EF46E55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3329-52BD-415E-8DC8-C1686DE9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79F-508B-429C-8A0E-3C3C1B0C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E41-D24B-4BBE-971C-0184A7BD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4A9-5265-4487-86DC-702A7D87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A039-9CC7-4EFD-BD1F-352C4FD77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84720" y="4284720"/>
            <a:ext cx="4859280" cy="35060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28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Галилея, Галилея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видетел вечен, мил си нам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че учил е от твоя бряг Спасителят наш, Господ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8000" y="3933720"/>
            <a:ext cx="4392720" cy="4247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Галилея, Галилея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мето ти е мило нам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о целий свят ще се знае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че Господ любил го 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11640" y="4816440"/>
            <a:ext cx="4032360" cy="30186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одата ти Христа носи и слуша Го, що Той учи и съветва от кораба народа Си с сладки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8000" y="3933720"/>
            <a:ext cx="4392720" cy="4247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Галилея, Галилея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мето ти е мило нам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о целий свят ще се знае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че Господ любил го 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00720" y="4772160"/>
            <a:ext cx="4643280" cy="3993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мето ти нам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инаги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къпо ще е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ще го любим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Господ наш обича го, проповядва там най-много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8000" y="3933720"/>
            <a:ext cx="4392720" cy="4247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Галилея, Галилея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мето ти е мило нам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о целий свят ще се знае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че Господ любил го 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0:52:56Z</dcterms:created>
  <dc:creator>TrifonTrifonow</dc:creator>
  <dc:description/>
  <dc:language>en-US</dc:language>
  <cp:lastModifiedBy>TrifonTrifonow</cp:lastModifiedBy>
  <dcterms:modified xsi:type="dcterms:W3CDTF">2005-12-08T11:21:07Z</dcterms:modified>
  <cp:revision>14</cp:revision>
  <dc:subject/>
  <dc:title>Slide 1</dc:title>
</cp:coreProperties>
</file>